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9BA-D5C9-48B1-A4C6-B7A6E790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22F-4DFE-4D99-886C-36CA2015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BFA0-1B07-47CB-8645-29BEE4D3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BAD-8CA3-49CA-B7B3-8632C647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97F-702E-416F-87FA-FA0BA11B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DC4-FB41-460F-AD95-FB208B50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55A-F1D3-49FE-8A32-5C0170EF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596-1512-4B11-B90B-808169DC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24A-69E0-49F1-B6CA-14AF86A4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D8C-D0A3-49C3-943F-80444F5D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FC8-E7AC-44E4-B202-26855C2D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D2F-3A82-427A-BBE7-DF4429D5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0F66-75B6-4919-80B2-C56FC50E6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ght of Sun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 and moon appear to move across the sky each day because of Earth’s rotation on its ax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h of the sun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s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gle of the sunlight c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adow to appear o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ide of the  objec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ngth of the shadow cha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out the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0040" y="2971800"/>
            <a:ext cx="2295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3:05:21Z</dcterms:created>
  <dc:creator>skrial</dc:creator>
  <dc:description/>
  <dc:language>en-US</dc:language>
  <cp:lastModifiedBy>skrial</cp:lastModifiedBy>
  <dcterms:modified xsi:type="dcterms:W3CDTF">2010-09-23T19:36:02Z</dcterms:modified>
  <cp:revision>3</cp:revision>
  <dc:subject/>
  <dc:title>Height of Sun Notes 10/6</dc:title>
</cp:coreProperties>
</file>